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4.gif" ContentType="image/gif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3EC8-9E38-4209-823B-0EDAB94D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164C-D71B-4593-BBFA-B0C5EB5B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7C0-B411-498E-AC9F-C2D8F934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CCA6-2157-4F42-BE7F-A015C536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0002-98D6-4B26-84CD-AE27D52B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A79-005D-44BD-8567-08F9A8EB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6BA-8F31-4DF4-BCE4-E18F9AD0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C0A-343A-4922-B276-A66483D4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9CC-660B-4A35-8533-FE43C64C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53B1-5E1B-42EA-BE98-959DB5E4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E422-498A-43F4-91D9-6BFD7195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7FB9-28DE-47B1-8AE0-AA26A62F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F42C-B759-4C45-B42B-855A8DC48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838080"/>
            <a:ext cx="77724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ristma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ing to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76720" y="411480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St. Jude Art &amp; Technology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s 5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0" b="9093"/>
          <a:stretch/>
        </p:blipFill>
        <p:spPr>
          <a:xfrm>
            <a:off x="5257800" y="855720"/>
            <a:ext cx="3505320" cy="21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90720" y="533520"/>
            <a:ext cx="167616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 the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410080" y="380880"/>
            <a:ext cx="289584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rate with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24480" y="6248520"/>
            <a:ext cx="23623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77120" y="60948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 Deco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77120" y="380880"/>
            <a:ext cx="236196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te to Ch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05120" y="304920"/>
            <a:ext cx="304776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Christmas Car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172200" y="45720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" y="0"/>
            <a:ext cx="90770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38088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629400" y="236232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Fun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6858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90720" y="1523880"/>
            <a:ext cx="73720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ve a Merry Christmas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2287800" cy="26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72200" y="6248520"/>
            <a:ext cx="23623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te to Ch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8088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72200" y="6248520"/>
            <a:ext cx="23623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e for the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00800" y="609480"/>
            <a:ext cx="23623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Kind to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1219320"/>
            <a:ext cx="38862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867280" y="60948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 Deco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6172200"/>
            <a:ext cx="23623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the Tr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2200" y="6248520"/>
            <a:ext cx="16765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te To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248520" y="228600"/>
            <a:ext cx="236196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te to Ch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20:51:10Z</dcterms:created>
  <dc:creator>Patrick J. Mooney</dc:creator>
  <dc:description/>
  <dc:language>en-US</dc:language>
  <cp:lastModifiedBy>Patrick J. Mooney</cp:lastModifiedBy>
  <dcterms:modified xsi:type="dcterms:W3CDTF">2011-12-13T22:27:21Z</dcterms:modified>
  <cp:revision>4</cp:revision>
  <dc:subject/>
  <dc:title>Slide 1</dc:title>
</cp:coreProperties>
</file>